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9.wmf" ContentType="image/x-wmf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27.jpeg" ContentType="image/jpeg"/>
  <Override PartName="/ppt/media/image52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9.jpeg" ContentType="image/jpeg"/>
  <Override PartName="/ppt/media/image25.png" ContentType="image/png"/>
  <Override PartName="/ppt/media/image62.png" ContentType="image/png"/>
  <Override PartName="/ppt/media/image28.jpeg" ContentType="image/jpeg"/>
  <Override PartName="/ppt/media/image21.png" ContentType="image/png"/>
  <Override PartName="/ppt/media/image58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16.jpeg" ContentType="image/jpe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0.png" ContentType="image/png"/>
  <Override PartName="/ppt/media/image33.jpeg" ContentType="image/jpe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3.png" ContentType="image/png"/>
  <Override PartName="/ppt/media/image5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C11F-CDC8-4BED-8294-410662715382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9D35-7674-4AB3-9A86-7DD99A68C92F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5A04-A2DC-4AB8-96AF-30CB16F29623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C482-E014-4ADE-BF63-7DB8901CC7F0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4634-D90C-4605-964E-0DEF87686980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9889-FF12-4910-900F-799DC8BD0F17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9C1C-7685-4B47-91A2-B770351E364F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E2BC-C6DC-4073-A203-8F1D4C1466E9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3B0B-0996-4848-BCEE-0AAB08640C20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24E5-643F-4DF5-9D8E-DA95807557B2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2929-4208-4DA5-8463-FD9107FEC447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8F6F-A85F-47D9-9E29-92F6E80FBD97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1BA5-478A-47EF-9690-6DE68652B2EF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B8CA-AC11-491D-9EA8-C96DBA433092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AC7A-8435-4B3E-A1D7-946F4CB35321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A3B4-AC6A-4CED-9BFD-C0A841A3BBFB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5A73-D358-4DE4-8386-C0F590BDA2BD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5231-66D6-4493-843F-746AD294BAF6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7B39-BDAA-4948-A954-B63E262D90D8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02A5-3B7E-4E13-9AFF-7BBC4AAC907E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07C9-B1AE-4EA0-B8B7-D966E8B05837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5696-4A3B-4A15-8AA8-26B800DAB803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CC45-D2F3-4ED3-AF4E-54BC3299AB30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1DB9-C811-4FD9-8AA0-147F8DC60F58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5B30-7A92-42EC-BBEC-8E7AAF2D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BF2-3A1E-444D-A512-D31900AA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BEA-E276-47CD-AD85-3347CD1A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3F2F-B8B9-4E4C-AFD7-7E8E7895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6B5A-8F8B-48B7-BC8E-169D2DD6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ACCC-360A-4A95-9886-0DE7AEB1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D8EF-FEE0-4157-BA5B-7951DC6D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791A-792C-426C-B483-8D25180C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E99A-3118-411D-9746-9367CF5D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C145-BA6F-4158-84B8-511BB615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0733-946B-4736-898B-63B09851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8EF-F1D8-49D5-9904-D304CA26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4DCE-4530-48A7-9884-1099B3EC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0C15-DC2C-45C3-9C9C-52E1D1A8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4443-5D75-4C23-833E-18F45D6E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60E7-38C0-4A64-9FCB-A63E2AB4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7CD3-0D0A-481B-A841-59BBF1CD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176B3-1E0B-4A16-87C1-BE57B94E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ADF59-FAB2-46BF-AC52-8E028744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33533-26BB-4861-A760-C47B9C87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2A515-C17D-4302-AEAA-2D17009A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DA02-DB59-4D43-8AB0-55CA9F0B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F87-0053-4FE9-9855-FDB9FBD8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ECA26-BE2B-4300-9614-BA1A1B3E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A1F2-4BA0-4226-8A2B-CCC7333E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20C59-C23E-42C1-B685-C67EB985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BBC9A-FE2E-4334-97EC-3D82EAC2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C2C4C-4955-4F96-9239-E6003717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ED1B0-47A1-41F0-871D-B00B3B0D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4543E-B35E-4B6D-985D-FB36D3BE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1AAA0-E219-4DF4-A121-15218ABF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49F09-027A-4228-8B32-DDE7FF45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B8589-6B0E-4FC3-9ED6-4E8207CD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D03-C7CD-4B13-BB05-B21E49F5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033AA-4A99-4A86-BEA4-191D5AD7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637AB-57E7-43FC-9E97-0D2B2F35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5DBB8-F76B-4CAB-8AD2-02B80BA4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6EE10-40C5-4726-8704-B6D15AFD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61289-8733-4412-9E80-39B88222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CF93F-68E2-471C-9CEA-CD67A2CA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4FCBD-781E-4551-A8CE-6590E894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1E7D8-0128-4450-8111-42E56B11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F73EC-71E6-4005-86B8-EED7D47E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EB4E2-00CA-45A8-8F50-F721A24C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DFC-B4E8-43A6-A612-4EB8B32D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B1F54-7D83-460F-809B-B6061B54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BECF6-6184-4772-A4BD-399D37A1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5D372-3757-42DA-817B-1F6A05C4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20FFA-A0BC-4DD4-899B-8A4348F1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BC6AE-99B4-4BBA-B8F6-98C0932B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1AEDC-959D-4122-B4DA-5880DF5C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6FFFC-C960-46E2-A761-7E509EDB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A5477-C18E-4874-925D-48A89849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A65D9-3522-4F14-828C-EDC75D08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8E5DD-D1F0-4FC5-97B8-CB8B3AD0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215-8890-405E-BA8A-707E67AE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16559-F733-4896-9F6C-F1C7A420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AA4-A8A0-4D3C-AD1E-24DF24A1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252-7746-4D71-ACD4-0B37A4A8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4CF-EB1B-4BCD-9FB2-5E5D7199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ttango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ttango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CF14-631D-40D8-9DAB-EF5CEE75D113}" type="slidenum">
              <a:rPr b="0" lang="it-IT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ttangolo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ttangolo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Connettore 1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092D-0CF2-4481-947C-82C033C3AB1F}" type="slidenum"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ttango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ttango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CDAE-B357-4803-A103-FDECD85ABC8D}" type="slidenum">
              <a:rPr b="0" lang="it-IT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tangolo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tangolo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2124-B932-4E4F-9EA2-2772D66B1E06}" type="slidenum">
              <a:rPr b="0" lang="it-IT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ttango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ttango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3966-DD28-4EAB-82A8-D98829B8CF91}" type="slidenum">
              <a:rPr b="0" lang="it-IT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hyperlink" Target="file:///DM%2018%20agosto%201993%20-%20approvazione%20tariffa%20ed%20allegati.pd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2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3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2.png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DM%2018%20agosto%201993%20-%20approvazione%20tariffa%20ed%20allegati.pdf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olo 1" descr=""/>
          <p:cNvPicPr/>
          <p:nvPr/>
        </p:nvPicPr>
        <p:blipFill>
          <a:blip r:embed="rId1"/>
          <a:stretch/>
        </p:blipFill>
        <p:spPr>
          <a:xfrm>
            <a:off x="2706840" y="341280"/>
            <a:ext cx="6443640" cy="2755800"/>
          </a:xfrm>
          <a:prstGeom prst="rect">
            <a:avLst/>
          </a:prstGeom>
          <a:ln w="0">
            <a:noFill/>
          </a:ln>
        </p:spPr>
      </p:pic>
      <p:sp>
        <p:nvSpPr>
          <p:cNvPr id="228" name="CasellaDiTesto 3"/>
          <p:cNvSpPr/>
          <p:nvPr/>
        </p:nvSpPr>
        <p:spPr>
          <a:xfrm>
            <a:off x="0" y="1928880"/>
            <a:ext cx="2643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UNIVERSITÀ DEGLI STUDI DI TOR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FACOLTÀ DI FARM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ID PROGRESS PHARMACIST AGREEMENT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ttangolo 6"/>
          <p:cNvSpPr/>
          <p:nvPr/>
        </p:nvSpPr>
        <p:spPr>
          <a:xfrm>
            <a:off x="2714760" y="571032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MATTEO CAVALL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Rettangolo 17" descr=""/>
          <p:cNvPicPr/>
          <p:nvPr/>
        </p:nvPicPr>
        <p:blipFill>
          <a:blip r:embed="rId2"/>
          <a:stretch/>
        </p:blipFill>
        <p:spPr>
          <a:xfrm>
            <a:off x="2676600" y="3144960"/>
            <a:ext cx="6607080" cy="1334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"/>
          <p:cNvPicPr/>
          <p:nvPr/>
        </p:nvPicPr>
        <p:blipFill>
          <a:blip r:embed="rId3"/>
          <a:stretch/>
        </p:blipFill>
        <p:spPr>
          <a:xfrm>
            <a:off x="39600" y="4591080"/>
            <a:ext cx="2603520" cy="2266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2665440" cy="23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CasellaDiTesto 1"/>
          <p:cNvSpPr/>
          <p:nvPr/>
        </p:nvSpPr>
        <p:spPr>
          <a:xfrm>
            <a:off x="214200" y="857160"/>
            <a:ext cx="7786800" cy="56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alibri"/>
              </a:rPr>
              <a:t>Art. 3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prezzo di vendita al pubblico dei medicinali è formato: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all'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mporto delle sostanz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mpiegate in base all'annessa tabella dei prezzi delle sostanze (allegato A) o in base al disposto di cui al successivo art.5, nel caso di sostanze non comprese nella predetta tabella;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all'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mporto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egli onorari professional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in base all'annessa tabella (allegato B);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agl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eventuali diritti addizional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 cui ai successivi articoli 7 e 8;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a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costo del recipient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quando sia fornito dal farmac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alibri"/>
              </a:rPr>
              <a:t>Art. 5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r le sostanze non comprese nell'allegato A il prezzo si determina raddoppiando quello di acquisto, del quale deve essere conservata prova document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llaDiTesto 4"/>
          <p:cNvSpPr/>
          <p:nvPr/>
        </p:nvSpPr>
        <p:spPr>
          <a:xfrm>
            <a:off x="142920" y="3429000"/>
            <a:ext cx="7929360" cy="1191240"/>
          </a:xfrm>
          <a:prstGeom prst="rect">
            <a:avLst/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N.B. di fatto il costo viene “deivato”, raddoppiato ed addizionato di IVA al 10%, in analogia a quella imposta sui medicinali di origine industri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Titolo 1" descr=""/>
          <p:cNvPicPr/>
          <p:nvPr/>
        </p:nvPicPr>
        <p:blipFill>
          <a:blip r:embed="rId1"/>
          <a:stretch/>
        </p:blipFill>
        <p:spPr>
          <a:xfrm>
            <a:off x="-103320" y="60480"/>
            <a:ext cx="8253720" cy="73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CasellaDiTesto 2"/>
          <p:cNvSpPr/>
          <p:nvPr/>
        </p:nvSpPr>
        <p:spPr>
          <a:xfrm>
            <a:off x="144360" y="2225520"/>
            <a:ext cx="7927920" cy="381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alibri"/>
              </a:rPr>
              <a:t>Proposta  di Federfarma in collaborazione con  SIFAP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l prezzo delle sostanze verrà calcolato da TNM o raddoppiando il costo d’acquisto se non presenti in T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onorario può essere calcolato con la “tariffa dei multipli” e comunque non dovrà essere maggiore di quello ottenuto usando la TN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alibri"/>
              </a:rPr>
              <a:t>Testo Unico delle Leggi Sanitarie (1934) - Art. 125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(…) è vietata la vendita al pubblico di medicinali a prezzo diverso da quello indicato nella tariffa (…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Titolo 1" descr=""/>
          <p:cNvPicPr/>
          <p:nvPr/>
        </p:nvPicPr>
        <p:blipFill>
          <a:blip r:embed="rId1"/>
          <a:stretch/>
        </p:blipFill>
        <p:spPr>
          <a:xfrm>
            <a:off x="-103320" y="60480"/>
            <a:ext cx="8253720" cy="731520"/>
          </a:xfrm>
          <a:prstGeom prst="rect">
            <a:avLst/>
          </a:prstGeom>
          <a:ln w="0">
            <a:noFill/>
          </a:ln>
        </p:spPr>
      </p:pic>
      <p:pic>
        <p:nvPicPr>
          <p:cNvPr id="287" name="Titolo 1" descr=""/>
          <p:cNvPicPr/>
          <p:nvPr/>
        </p:nvPicPr>
        <p:blipFill>
          <a:blip r:embed="rId2"/>
          <a:stretch/>
        </p:blipFill>
        <p:spPr>
          <a:xfrm>
            <a:off x="19080" y="920880"/>
            <a:ext cx="8204040" cy="1083960"/>
          </a:xfrm>
          <a:prstGeom prst="rect">
            <a:avLst/>
          </a:prstGeom>
          <a:ln w="0">
            <a:noFill/>
          </a:ln>
        </p:spPr>
      </p:pic>
      <p:sp>
        <p:nvSpPr>
          <p:cNvPr id="288" name="CasellaDiTesto 8"/>
          <p:cNvSpPr/>
          <p:nvPr/>
        </p:nvSpPr>
        <p:spPr>
          <a:xfrm>
            <a:off x="142920" y="3429000"/>
            <a:ext cx="7929360" cy="1557000"/>
          </a:xfrm>
          <a:prstGeom prst="rect">
            <a:avLst/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REZZO DISCREZIONALE IN FARMA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NM Art. 11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: La tariffa nazionale non deve essere applicata quando la vendita al pubblico concerne sostanze non aventi forma e dose di medica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CasellaDiTesto 7"/>
          <p:cNvSpPr/>
          <p:nvPr/>
        </p:nvSpPr>
        <p:spPr>
          <a:xfrm>
            <a:off x="144360" y="1776240"/>
            <a:ext cx="7927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ome materia p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tato fisico – caratteri organolet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so moleco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unto di fu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olu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compat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escrizione classe materie 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so speci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NM, tariffa nazionale dei medici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AS, Chemical Abstract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inon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Frasi R/S di rischio/sicu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Titolo 1" descr=""/>
          <p:cNvPicPr/>
          <p:nvPr/>
        </p:nvPicPr>
        <p:blipFill>
          <a:blip r:embed="rId1"/>
          <a:stretch/>
        </p:blipFill>
        <p:spPr>
          <a:xfrm>
            <a:off x="-103320" y="60480"/>
            <a:ext cx="8253720" cy="731520"/>
          </a:xfrm>
          <a:prstGeom prst="rect">
            <a:avLst/>
          </a:prstGeom>
          <a:ln w="0">
            <a:noFill/>
          </a:ln>
        </p:spPr>
      </p:pic>
      <p:pic>
        <p:nvPicPr>
          <p:cNvPr id="291" name="Titolo 1" descr=""/>
          <p:cNvPicPr/>
          <p:nvPr/>
        </p:nvPicPr>
        <p:blipFill>
          <a:blip r:embed="rId2"/>
          <a:stretch/>
        </p:blipFill>
        <p:spPr>
          <a:xfrm>
            <a:off x="19080" y="865080"/>
            <a:ext cx="8131320" cy="603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tastiera_014"/>
          <p:cNvPicPr/>
          <p:nvPr/>
        </p:nvPicPr>
        <p:blipFill>
          <a:blip r:embed="rId3"/>
          <a:srcRect l="406" t="0" r="0" b="0"/>
          <a:stretch/>
        </p:blipFill>
        <p:spPr>
          <a:xfrm>
            <a:off x="5511960" y="2571840"/>
            <a:ext cx="2560320" cy="192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85840" y="1714320"/>
            <a:ext cx="40003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dentificazione sostanza/preparato della società/impre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omposizione/informazione sugli ingredien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dentificazione dei perico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Misure/interventi di primo soccor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Misure antincend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Misure/provvedimenti in caso di dispersione accidenta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Manipolazione/stoccagg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ontrollo dell'esposizione/protezione persona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tezione fisiche/chimic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tabilità/reattivit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nformazioni tossicologic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nformazioni ecologic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Osservazioni sullo smaltimen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nformazioni sul traspor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nformazioni sulla normativ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Altre informazion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CasellaDiTesto 3"/>
          <p:cNvSpPr/>
          <p:nvPr/>
        </p:nvSpPr>
        <p:spPr>
          <a:xfrm>
            <a:off x="0" y="857160"/>
            <a:ext cx="42148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Material Safety Data Sh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Scheda informativa in materia di sicure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lgs n°52 03/02/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egnaposto contenuto 2"/>
          <p:cNvSpPr/>
          <p:nvPr/>
        </p:nvSpPr>
        <p:spPr>
          <a:xfrm>
            <a:off x="4429080" y="1357200"/>
            <a:ext cx="32148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inonimi-DCI-I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Brev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Farmacop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prietà chimico-fis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ncompatibilità chimico-fis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dentif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aggi di purez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eterminazione quantit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tabilità e conserv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prietà farmacolog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Farmacocine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Tossic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ndicazioni terapeut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osologia e vie di somminist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ffetti collate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ontroindicazioni e precauzioni d’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ovradosaggio ed antido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ntera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ett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asellaDiTesto 6"/>
          <p:cNvSpPr/>
          <p:nvPr/>
        </p:nvSpPr>
        <p:spPr>
          <a:xfrm>
            <a:off x="4214880" y="857160"/>
            <a:ext cx="38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Dizionario pratico scientif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Titolo 1" descr=""/>
          <p:cNvPicPr/>
          <p:nvPr/>
        </p:nvPicPr>
        <p:blipFill>
          <a:blip r:embed="rId1"/>
          <a:stretch/>
        </p:blipFill>
        <p:spPr>
          <a:xfrm>
            <a:off x="133200" y="60480"/>
            <a:ext cx="3945240" cy="731520"/>
          </a:xfrm>
          <a:prstGeom prst="rect">
            <a:avLst/>
          </a:prstGeom>
          <a:ln w="0">
            <a:noFill/>
          </a:ln>
        </p:spPr>
      </p:pic>
      <p:pic>
        <p:nvPicPr>
          <p:cNvPr id="298" name="Titolo 1" descr=""/>
          <p:cNvPicPr/>
          <p:nvPr/>
        </p:nvPicPr>
        <p:blipFill>
          <a:blip r:embed="rId2"/>
          <a:stretch/>
        </p:blipFill>
        <p:spPr>
          <a:xfrm>
            <a:off x="4248000" y="60480"/>
            <a:ext cx="3945240" cy="73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Immagine 1" descr="mp.bmp"/>
          <p:cNvPicPr/>
          <p:nvPr/>
        </p:nvPicPr>
        <p:blipFill>
          <a:blip r:embed="rId1"/>
          <a:stretch/>
        </p:blipFill>
        <p:spPr>
          <a:xfrm>
            <a:off x="357120" y="1990800"/>
            <a:ext cx="7477200" cy="4152960"/>
          </a:xfrm>
          <a:prstGeom prst="rect">
            <a:avLst/>
          </a:prstGeom>
          <a:ln w="0">
            <a:noFill/>
          </a:ln>
        </p:spPr>
      </p:pic>
      <p:sp>
        <p:nvSpPr>
          <p:cNvPr id="300" name="Callout 1 4"/>
          <p:cNvSpPr/>
          <p:nvPr/>
        </p:nvSpPr>
        <p:spPr>
          <a:xfrm>
            <a:off x="142920" y="3643200"/>
            <a:ext cx="8643960" cy="1643040"/>
          </a:xfrm>
          <a:prstGeom prst="borderCallout1">
            <a:avLst>
              <a:gd name="adj1" fmla="val 18750"/>
              <a:gd name="adj2" fmla="val -8333"/>
              <a:gd name="adj3" fmla="val -69402"/>
              <a:gd name="adj4" fmla="val 7725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214200" y="3714840"/>
            <a:ext cx="8548920" cy="1498680"/>
          </a:xfrm>
          <a:prstGeom prst="rect">
            <a:avLst/>
          </a:prstGeom>
          <a:ln w="0">
            <a:noFill/>
          </a:ln>
        </p:spPr>
      </p:pic>
      <p:pic>
        <p:nvPicPr>
          <p:cNvPr id="302" name="Titolo 1" descr=""/>
          <p:cNvPicPr/>
          <p:nvPr/>
        </p:nvPicPr>
        <p:blipFill>
          <a:blip r:embed="rId3"/>
          <a:stretch/>
        </p:blipFill>
        <p:spPr>
          <a:xfrm>
            <a:off x="-103320" y="60480"/>
            <a:ext cx="8253720" cy="731520"/>
          </a:xfrm>
          <a:prstGeom prst="rect">
            <a:avLst/>
          </a:prstGeom>
          <a:ln w="0">
            <a:noFill/>
          </a:ln>
        </p:spPr>
      </p:pic>
      <p:pic>
        <p:nvPicPr>
          <p:cNvPr id="303" name="Titolo 1" descr=""/>
          <p:cNvPicPr/>
          <p:nvPr/>
        </p:nvPicPr>
        <p:blipFill>
          <a:blip r:embed="rId4"/>
          <a:stretch/>
        </p:blipFill>
        <p:spPr>
          <a:xfrm>
            <a:off x="19080" y="865080"/>
            <a:ext cx="8131320" cy="60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ttangolo 5"/>
          <p:cNvSpPr/>
          <p:nvPr/>
        </p:nvSpPr>
        <p:spPr>
          <a:xfrm>
            <a:off x="5929200" y="1490760"/>
            <a:ext cx="2071800" cy="10810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399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S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ttangolo 11"/>
          <p:cNvSpPr/>
          <p:nvPr/>
        </p:nvSpPr>
        <p:spPr>
          <a:xfrm>
            <a:off x="5580000" y="4869000"/>
            <a:ext cx="2503440" cy="17398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iproducibilità dei galenici allest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ccia bidirezionale verticale 13"/>
          <p:cNvSpPr/>
          <p:nvPr/>
        </p:nvSpPr>
        <p:spPr>
          <a:xfrm>
            <a:off x="6786720" y="2714760"/>
            <a:ext cx="357120" cy="1928520"/>
          </a:xfrm>
          <a:prstGeom prst="upDown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tangolo 14"/>
          <p:cNvSpPr/>
          <p:nvPr/>
        </p:nvSpPr>
        <p:spPr>
          <a:xfrm>
            <a:off x="285840" y="4857840"/>
            <a:ext cx="2697120" cy="17398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mplificare “burocraz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perazioni allest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1" descr=""/>
          <p:cNvPicPr/>
          <p:nvPr/>
        </p:nvPicPr>
        <p:blipFill>
          <a:blip r:embed="rId1"/>
          <a:stretch/>
        </p:blipFill>
        <p:spPr>
          <a:xfrm>
            <a:off x="3714840" y="4000680"/>
            <a:ext cx="1398600" cy="1428480"/>
          </a:xfrm>
          <a:prstGeom prst="rect">
            <a:avLst/>
          </a:prstGeom>
          <a:ln w="0">
            <a:noFill/>
          </a:ln>
        </p:spPr>
      </p:pic>
      <p:sp>
        <p:nvSpPr>
          <p:cNvPr id="309" name="CasellaDiTesto 17"/>
          <p:cNvSpPr/>
          <p:nvPr/>
        </p:nvSpPr>
        <p:spPr>
          <a:xfrm>
            <a:off x="144360" y="164160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ocumentazione senza possibilità di interpre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critte o su mezzo informa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atate e sottoscri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spetti gestionali – tecnolog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olo 1" descr=""/>
          <p:cNvPicPr/>
          <p:nvPr/>
        </p:nvPicPr>
        <p:blipFill>
          <a:blip r:embed="rId2"/>
          <a:stretch/>
        </p:blipFill>
        <p:spPr>
          <a:xfrm>
            <a:off x="-103320" y="60480"/>
            <a:ext cx="8253720" cy="731520"/>
          </a:xfrm>
          <a:prstGeom prst="rect">
            <a:avLst/>
          </a:prstGeom>
          <a:ln w="0">
            <a:noFill/>
          </a:ln>
        </p:spPr>
      </p:pic>
      <p:pic>
        <p:nvPicPr>
          <p:cNvPr id="311" name="Titolo 1" descr=""/>
          <p:cNvPicPr/>
          <p:nvPr/>
        </p:nvPicPr>
        <p:blipFill>
          <a:blip r:embed="rId3"/>
          <a:stretch/>
        </p:blipFill>
        <p:spPr>
          <a:xfrm>
            <a:off x="19080" y="865080"/>
            <a:ext cx="7442280" cy="603360"/>
          </a:xfrm>
          <a:prstGeom prst="rect">
            <a:avLst/>
          </a:prstGeom>
          <a:ln w="0">
            <a:noFill/>
          </a:ln>
        </p:spPr>
      </p:pic>
      <p:sp>
        <p:nvSpPr>
          <p:cNvPr id="312" name="Freccia bidirezionale verticale 22"/>
          <p:cNvSpPr/>
          <p:nvPr/>
        </p:nvSpPr>
        <p:spPr>
          <a:xfrm rot="5400000">
            <a:off x="4286160" y="4714920"/>
            <a:ext cx="357120" cy="1928880"/>
          </a:xfrm>
          <a:prstGeom prst="up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71280" y="1123920"/>
            <a:ext cx="3800520" cy="53053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14" name="CasellaDiTesto 4"/>
          <p:cNvSpPr/>
          <p:nvPr/>
        </p:nvSpPr>
        <p:spPr>
          <a:xfrm>
            <a:off x="4071960" y="857160"/>
            <a:ext cx="4000320" cy="576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</a:rPr>
              <a:t>Finalità e modalità di trat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conservazione e la gestione saranno realizzate con la massima attenzione alla riservatezza, come stabilito dal D.Lgs 196/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informiamo che i dati saranno conservati per il periodo massimo consentito dalle normative vig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ccia circolare in su 5"/>
          <p:cNvSpPr/>
          <p:nvPr/>
        </p:nvSpPr>
        <p:spPr>
          <a:xfrm rot="1551000">
            <a:off x="2542680" y="2830320"/>
            <a:ext cx="1643040" cy="571320"/>
          </a:xfrm>
          <a:custGeom>
            <a:avLst/>
            <a:gdLst>
              <a:gd name="textAreaLeft" fmla="*/ 357120 w 1643040"/>
              <a:gd name="textAreaRight" fmla="*/ 1214640 w 164304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91" hR="21600" stAng="10800000" swAng="-5400000"/>
                <a:lnTo>
                  <a:pt x="11270" y="21600"/>
                </a:lnTo>
                <a:arcTo wR="9391" hR="21600" stAng="5400000" swAng="-3557695"/>
                <a:lnTo>
                  <a:pt x="21302" y="5400"/>
                </a:lnTo>
                <a:lnTo>
                  <a:pt x="19722" y="0"/>
                </a:lnTo>
                <a:lnTo>
                  <a:pt x="17545" y="5400"/>
                </a:lnTo>
                <a:lnTo>
                  <a:pt x="18484" y="5400"/>
                </a:lnTo>
                <a:arcTo wR="9391" hR="21600" stAng="1842305" swAng="3407510"/>
                <a:lnTo>
                  <a:pt x="10331" y="21492"/>
                </a:lnTo>
                <a:arcTo wR="9391" hR="21600" stAng="5550184" swAng="5249816"/>
                <a:close/>
              </a:path>
              <a:path fill="darkenLess" w="21600" h="21600">
                <a:moveTo>
                  <a:pt x="0" y="0"/>
                </a:moveTo>
                <a:arcTo wR="9391" hR="21600" stAng="10800000" swAng="-5400000"/>
                <a:lnTo>
                  <a:pt x="11270" y="21600"/>
                </a:lnTo>
                <a:arcTo wR="9391" hR="21600" stAng="5400000" swAng="150184"/>
                <a:lnTo>
                  <a:pt x="10331" y="21492"/>
                </a:lnTo>
                <a:arcTo wR="9391" hR="21600" stAng="5550184" swAng="5249816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asellaDiTesto 6"/>
          <p:cNvSpPr/>
          <p:nvPr/>
        </p:nvSpPr>
        <p:spPr>
          <a:xfrm>
            <a:off x="285840" y="1785960"/>
            <a:ext cx="2928960" cy="222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formativa per il trattamento di dati  personali ai sensi dell'art. 13 del D.Lgs 196/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Titolo 1" descr=""/>
          <p:cNvPicPr/>
          <p:nvPr/>
        </p:nvPicPr>
        <p:blipFill>
          <a:blip r:embed="rId2"/>
          <a:stretch/>
        </p:blipFill>
        <p:spPr>
          <a:xfrm>
            <a:off x="-103320" y="60480"/>
            <a:ext cx="8253720" cy="73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CasellaDiTesto 2"/>
          <p:cNvSpPr/>
          <p:nvPr/>
        </p:nvSpPr>
        <p:spPr>
          <a:xfrm>
            <a:off x="214200" y="1619280"/>
            <a:ext cx="7786800" cy="271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alibri"/>
              </a:rPr>
              <a:t>D.lgs 196/03 Art. 11. Modalità del trattamento e requisiti dei da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dati personali oggetto di trattamento so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) conservati in una forma che consenta l'identificazione dell'interessato per un periodo di tempo non superiore a quello necessario agli scopi per i quali essi sono stati raccolti o successivamente tratta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5981760" y="0"/>
            <a:ext cx="2090520" cy="1571760"/>
          </a:xfrm>
          <a:prstGeom prst="rect">
            <a:avLst/>
          </a:prstGeom>
          <a:ln w="0">
            <a:noFill/>
          </a:ln>
        </p:spPr>
      </p:pic>
      <p:pic>
        <p:nvPicPr>
          <p:cNvPr id="320" name="Titolo 1" descr=""/>
          <p:cNvPicPr/>
          <p:nvPr/>
        </p:nvPicPr>
        <p:blipFill>
          <a:blip r:embed="rId2"/>
          <a:stretch/>
        </p:blipFill>
        <p:spPr>
          <a:xfrm>
            <a:off x="-103320" y="60480"/>
            <a:ext cx="8253720" cy="731520"/>
          </a:xfrm>
          <a:prstGeom prst="rect">
            <a:avLst/>
          </a:prstGeom>
          <a:ln w="0">
            <a:noFill/>
          </a:ln>
        </p:spPr>
      </p:pic>
      <p:pic>
        <p:nvPicPr>
          <p:cNvPr id="321" name="Titolo 1" descr=""/>
          <p:cNvPicPr/>
          <p:nvPr/>
        </p:nvPicPr>
        <p:blipFill>
          <a:blip r:embed="rId3"/>
          <a:stretch/>
        </p:blipFill>
        <p:spPr>
          <a:xfrm>
            <a:off x="19080" y="865080"/>
            <a:ext cx="7442280" cy="603360"/>
          </a:xfrm>
          <a:prstGeom prst="rect">
            <a:avLst/>
          </a:prstGeom>
          <a:ln w="0">
            <a:noFill/>
          </a:ln>
        </p:spPr>
      </p:pic>
      <p:sp>
        <p:nvSpPr>
          <p:cNvPr id="322" name="CasellaDiTesto 9"/>
          <p:cNvSpPr/>
          <p:nvPr/>
        </p:nvSpPr>
        <p:spPr>
          <a:xfrm>
            <a:off x="214200" y="4786200"/>
            <a:ext cx="7786800" cy="15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alibri"/>
              </a:rPr>
              <a:t>Archiviazione e conservazione della document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foglio di allestimento di un formula magistrale: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sei mesi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due anni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dall’ultima registrazione sul registro e/u se attesta la preparazione di sostanze iscritte in Tabella II sezione A,B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asellaDiTesto 11"/>
          <p:cNvSpPr/>
          <p:nvPr/>
        </p:nvSpPr>
        <p:spPr>
          <a:xfrm>
            <a:off x="142920" y="3429000"/>
            <a:ext cx="7929360" cy="1191240"/>
          </a:xfrm>
          <a:prstGeom prst="rect">
            <a:avLst/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formativa per il trattamento di dati  personali ai sensi dell‘Art. 13 del D.Lgs 196/03  viene conserv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EI M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ttangolo 3"/>
          <p:cNvSpPr/>
          <p:nvPr/>
        </p:nvSpPr>
        <p:spPr>
          <a:xfrm>
            <a:off x="500040" y="1714680"/>
            <a:ext cx="2928960" cy="642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artelle blin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ttangolo 4"/>
          <p:cNvSpPr/>
          <p:nvPr/>
        </p:nvSpPr>
        <p:spPr>
          <a:xfrm>
            <a:off x="4500720" y="1714680"/>
            <a:ext cx="3214440" cy="642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artelle modifica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egnaposto contenuto 2"/>
          <p:cNvSpPr/>
          <p:nvPr/>
        </p:nvSpPr>
        <p:spPr>
          <a:xfrm>
            <a:off x="3857760" y="3500280"/>
            <a:ext cx="464328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ersonalizzabili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dall’u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iverse classific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  <a:ea typeface="Arial"/>
              </a:rPr>
              <a:t>classe merceolog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alibri"/>
                <a:ea typeface="Arial"/>
              </a:rPr>
              <a:t>medico prescrit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alibri"/>
                <a:ea typeface="Arial"/>
              </a:rPr>
              <a:t>destinatario-utilizz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  <a:ea typeface="Arial"/>
              </a:rPr>
              <a:t>classe terapeut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egnaposto contenuto 2"/>
          <p:cNvSpPr/>
          <p:nvPr/>
        </p:nvSpPr>
        <p:spPr>
          <a:xfrm>
            <a:off x="73080" y="3643200"/>
            <a:ext cx="37846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ratt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da un testo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ormulazioni galen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n modifica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"/>
          <p:cNvPicPr/>
          <p:nvPr/>
        </p:nvPicPr>
        <p:blipFill>
          <a:blip r:embed="rId1"/>
          <a:stretch/>
        </p:blipFill>
        <p:spPr>
          <a:xfrm>
            <a:off x="1424160" y="2600280"/>
            <a:ext cx="1076040" cy="685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F:\login.gif"/>
          <p:cNvPicPr/>
          <p:nvPr/>
        </p:nvPicPr>
        <p:blipFill>
          <a:blip r:embed="rId2"/>
          <a:stretch/>
        </p:blipFill>
        <p:spPr>
          <a:xfrm>
            <a:off x="5572080" y="2643120"/>
            <a:ext cx="1047960" cy="628560"/>
          </a:xfrm>
          <a:prstGeom prst="rect">
            <a:avLst/>
          </a:prstGeom>
          <a:ln w="0">
            <a:noFill/>
          </a:ln>
        </p:spPr>
      </p:pic>
      <p:pic>
        <p:nvPicPr>
          <p:cNvPr id="330" name="Titolo 1" descr=""/>
          <p:cNvPicPr/>
          <p:nvPr/>
        </p:nvPicPr>
        <p:blipFill>
          <a:blip r:embed="rId3"/>
          <a:stretch/>
        </p:blipFill>
        <p:spPr>
          <a:xfrm>
            <a:off x="-103320" y="60480"/>
            <a:ext cx="8253720" cy="731520"/>
          </a:xfrm>
          <a:prstGeom prst="rect">
            <a:avLst/>
          </a:prstGeom>
          <a:ln w="0">
            <a:noFill/>
          </a:ln>
        </p:spPr>
      </p:pic>
      <p:pic>
        <p:nvPicPr>
          <p:cNvPr id="331" name="Titolo 1" descr=""/>
          <p:cNvPicPr/>
          <p:nvPr/>
        </p:nvPicPr>
        <p:blipFill>
          <a:blip r:embed="rId4"/>
          <a:stretch/>
        </p:blipFill>
        <p:spPr>
          <a:xfrm>
            <a:off x="19080" y="865080"/>
            <a:ext cx="7442280" cy="60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ttangolo 13"/>
          <p:cNvSpPr/>
          <p:nvPr/>
        </p:nvSpPr>
        <p:spPr>
          <a:xfrm>
            <a:off x="3786120" y="3571920"/>
            <a:ext cx="3571920" cy="25002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lestimento virtual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carico magazz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g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rivi di passaggi interme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Immagine 12" descr="computer_clipart_keyboard[1].gif"/>
          <p:cNvPicPr/>
          <p:nvPr/>
        </p:nvPicPr>
        <p:blipFill>
          <a:blip r:embed="rId1"/>
          <a:stretch/>
        </p:blipFill>
        <p:spPr>
          <a:xfrm>
            <a:off x="285840" y="1519200"/>
            <a:ext cx="2071440" cy="2124000"/>
          </a:xfrm>
          <a:prstGeom prst="rect">
            <a:avLst/>
          </a:prstGeom>
          <a:ln w="0">
            <a:noFill/>
          </a:ln>
        </p:spPr>
      </p:pic>
      <p:sp>
        <p:nvSpPr>
          <p:cNvPr id="334" name="Rettangolo 16"/>
          <p:cNvSpPr/>
          <p:nvPr/>
        </p:nvSpPr>
        <p:spPr>
          <a:xfrm>
            <a:off x="3786120" y="1857240"/>
            <a:ext cx="357192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ichiamo formule memorizz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ccia circolare in su 18"/>
          <p:cNvSpPr/>
          <p:nvPr/>
        </p:nvSpPr>
        <p:spPr>
          <a:xfrm rot="6792000">
            <a:off x="2393280" y="2754000"/>
            <a:ext cx="1071720" cy="785880"/>
          </a:xfrm>
          <a:custGeom>
            <a:avLst/>
            <a:gdLst>
              <a:gd name="textAreaLeft" fmla="*/ 194040 w 1071720"/>
              <a:gd name="textAreaRight" fmla="*/ 779400 w 107172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30" hR="21600" stAng="10800000" swAng="-5400000"/>
                <a:lnTo>
                  <a:pt x="11790" y="21600"/>
                </a:lnTo>
                <a:arcTo wR="7830" hR="21600" stAng="5400000" swAng="-3272326"/>
                <a:lnTo>
                  <a:pt x="21351" y="5400"/>
                </a:lnTo>
                <a:lnTo>
                  <a:pt x="17640" y="0"/>
                </a:lnTo>
                <a:lnTo>
                  <a:pt x="13431" y="5400"/>
                </a:lnTo>
                <a:lnTo>
                  <a:pt x="15411" y="5400"/>
                </a:lnTo>
                <a:arcTo wR="7830" hR="21600" stAng="2127674" swAng="2947583"/>
                <a:lnTo>
                  <a:pt x="9810" y="20898"/>
                </a:lnTo>
                <a:arcTo wR="7830" hR="21600" stAng="5724743" swAng="5075257"/>
                <a:close/>
              </a:path>
              <a:path fill="darkenLess" w="21600" h="21600">
                <a:moveTo>
                  <a:pt x="0" y="0"/>
                </a:moveTo>
                <a:arcTo wR="7830" hR="21600" stAng="10800000" swAng="-5400000"/>
                <a:lnTo>
                  <a:pt x="11790" y="21600"/>
                </a:lnTo>
                <a:arcTo wR="7830" hR="21600" stAng="5400000" swAng="324743"/>
                <a:lnTo>
                  <a:pt x="9810" y="20898"/>
                </a:lnTo>
                <a:arcTo wR="7830" hR="21600" stAng="5724743" swAng="5075257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" descr="F:\archivio.gif"/>
          <p:cNvPicPr/>
          <p:nvPr/>
        </p:nvPicPr>
        <p:blipFill>
          <a:blip r:embed="rId2"/>
          <a:stretch/>
        </p:blipFill>
        <p:spPr>
          <a:xfrm>
            <a:off x="385920" y="3857760"/>
            <a:ext cx="1971360" cy="2214360"/>
          </a:xfrm>
          <a:prstGeom prst="rect">
            <a:avLst/>
          </a:prstGeom>
          <a:ln w="0">
            <a:noFill/>
          </a:ln>
        </p:spPr>
      </p:pic>
      <p:pic>
        <p:nvPicPr>
          <p:cNvPr id="337" name="Titolo 1" descr=""/>
          <p:cNvPicPr/>
          <p:nvPr/>
        </p:nvPicPr>
        <p:blipFill>
          <a:blip r:embed="rId3"/>
          <a:stretch/>
        </p:blipFill>
        <p:spPr>
          <a:xfrm>
            <a:off x="-103320" y="60480"/>
            <a:ext cx="8253720" cy="731520"/>
          </a:xfrm>
          <a:prstGeom prst="rect">
            <a:avLst/>
          </a:prstGeom>
          <a:ln w="0">
            <a:noFill/>
          </a:ln>
        </p:spPr>
      </p:pic>
      <p:pic>
        <p:nvPicPr>
          <p:cNvPr id="338" name="Titolo 1" descr=""/>
          <p:cNvPicPr/>
          <p:nvPr/>
        </p:nvPicPr>
        <p:blipFill>
          <a:blip r:embed="rId4"/>
          <a:stretch/>
        </p:blipFill>
        <p:spPr>
          <a:xfrm>
            <a:off x="19080" y="865080"/>
            <a:ext cx="7442280" cy="60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olo 1" descr=""/>
          <p:cNvPicPr/>
          <p:nvPr/>
        </p:nvPicPr>
        <p:blipFill>
          <a:blip r:embed="rId1"/>
          <a:stretch/>
        </p:blipFill>
        <p:spPr>
          <a:xfrm>
            <a:off x="-103320" y="60480"/>
            <a:ext cx="9253800" cy="731520"/>
          </a:xfrm>
          <a:prstGeom prst="rect">
            <a:avLst/>
          </a:prstGeom>
          <a:ln w="0">
            <a:noFill/>
          </a:ln>
        </p:spPr>
      </p:pic>
      <p:sp>
        <p:nvSpPr>
          <p:cNvPr id="234" name="CasellaDiTesto 4"/>
          <p:cNvSpPr/>
          <p:nvPr/>
        </p:nvSpPr>
        <p:spPr>
          <a:xfrm>
            <a:off x="142920" y="164304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otale assenza di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usilio di registri a b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rdini telefo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ggiornamento di prezzi dei medicinali a 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lenco delle specialità su supporto cartac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ggiornamenti trimestr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ariffazione a fine mese a mano, con ausilio di calcol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Titolo 1" descr=""/>
          <p:cNvPicPr/>
          <p:nvPr/>
        </p:nvPicPr>
        <p:blipFill>
          <a:blip r:embed="rId2"/>
          <a:stretch/>
        </p:blipFill>
        <p:spPr>
          <a:xfrm>
            <a:off x="19080" y="865080"/>
            <a:ext cx="7442280" cy="603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3"/>
          <a:stretch/>
        </p:blipFill>
        <p:spPr>
          <a:xfrm>
            <a:off x="4795920" y="1643040"/>
            <a:ext cx="3276360" cy="2809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7" name="Picture 8" descr=""/>
          <p:cNvPicPr/>
          <p:nvPr/>
        </p:nvPicPr>
        <p:blipFill>
          <a:blip r:embed="rId4"/>
          <a:stretch/>
        </p:blipFill>
        <p:spPr>
          <a:xfrm>
            <a:off x="4786200" y="4643280"/>
            <a:ext cx="3286080" cy="1866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contenuto 2"/>
          <p:cNvSpPr/>
          <p:nvPr/>
        </p:nvSpPr>
        <p:spPr>
          <a:xfrm>
            <a:off x="3152880" y="5607000"/>
            <a:ext cx="614340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Titolo 1" descr=""/>
          <p:cNvPicPr/>
          <p:nvPr/>
        </p:nvPicPr>
        <p:blipFill>
          <a:blip r:embed="rId1"/>
          <a:stretch/>
        </p:blipFill>
        <p:spPr>
          <a:xfrm>
            <a:off x="-103320" y="60480"/>
            <a:ext cx="8253720" cy="731520"/>
          </a:xfrm>
          <a:prstGeom prst="rect">
            <a:avLst/>
          </a:prstGeom>
          <a:ln w="0">
            <a:noFill/>
          </a:ln>
        </p:spPr>
      </p:pic>
      <p:pic>
        <p:nvPicPr>
          <p:cNvPr id="341" name="Titolo 1" descr=""/>
          <p:cNvPicPr/>
          <p:nvPr/>
        </p:nvPicPr>
        <p:blipFill>
          <a:blip r:embed="rId2"/>
          <a:stretch/>
        </p:blipFill>
        <p:spPr>
          <a:xfrm>
            <a:off x="19080" y="865080"/>
            <a:ext cx="7442280" cy="603360"/>
          </a:xfrm>
          <a:prstGeom prst="rect">
            <a:avLst/>
          </a:prstGeom>
          <a:ln w="0">
            <a:noFill/>
          </a:ln>
        </p:spPr>
      </p:pic>
      <p:pic>
        <p:nvPicPr>
          <p:cNvPr id="342" name="Immagine 8" descr="1.bmp"/>
          <p:cNvPicPr/>
          <p:nvPr/>
        </p:nvPicPr>
        <p:blipFill>
          <a:blip r:embed="rId3"/>
          <a:stretch/>
        </p:blipFill>
        <p:spPr>
          <a:xfrm>
            <a:off x="109440" y="1776240"/>
            <a:ext cx="3962520" cy="4811760"/>
          </a:xfrm>
          <a:prstGeom prst="rect">
            <a:avLst/>
          </a:prstGeom>
          <a:ln w="0">
            <a:noFill/>
          </a:ln>
        </p:spPr>
      </p:pic>
      <p:sp>
        <p:nvSpPr>
          <p:cNvPr id="343" name="Segnaposto contenuto 2"/>
          <p:cNvSpPr/>
          <p:nvPr/>
        </p:nvSpPr>
        <p:spPr>
          <a:xfrm>
            <a:off x="4143240" y="1643040"/>
            <a:ext cx="3857760" cy="492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DATI PRES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nte di legitti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rma farmaceu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iferimento a procedure o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vvertenze e precau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mposi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trolli previ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teni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riodo di valid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isciplina di vend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Metodo di prepa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bbligo di registrazione in usc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Immagine 11" descr="newspaper_clipart.gif"/>
          <p:cNvPicPr/>
          <p:nvPr/>
        </p:nvPicPr>
        <p:blipFill>
          <a:blip r:embed="rId4"/>
          <a:stretch/>
        </p:blipFill>
        <p:spPr>
          <a:xfrm>
            <a:off x="6429240" y="142920"/>
            <a:ext cx="154008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egnaposto contenuto 2"/>
          <p:cNvSpPr/>
          <p:nvPr/>
        </p:nvSpPr>
        <p:spPr>
          <a:xfrm>
            <a:off x="3152880" y="5607000"/>
            <a:ext cx="614340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Titolo 1" descr=""/>
          <p:cNvPicPr/>
          <p:nvPr/>
        </p:nvPicPr>
        <p:blipFill>
          <a:blip r:embed="rId1"/>
          <a:stretch/>
        </p:blipFill>
        <p:spPr>
          <a:xfrm>
            <a:off x="-103320" y="60480"/>
            <a:ext cx="8253720" cy="731520"/>
          </a:xfrm>
          <a:prstGeom prst="rect">
            <a:avLst/>
          </a:prstGeom>
          <a:ln w="0">
            <a:noFill/>
          </a:ln>
        </p:spPr>
      </p:pic>
      <p:pic>
        <p:nvPicPr>
          <p:cNvPr id="347" name="Titolo 1" descr=""/>
          <p:cNvPicPr/>
          <p:nvPr/>
        </p:nvPicPr>
        <p:blipFill>
          <a:blip r:embed="rId2"/>
          <a:stretch/>
        </p:blipFill>
        <p:spPr>
          <a:xfrm>
            <a:off x="19080" y="865080"/>
            <a:ext cx="7442280" cy="609840"/>
          </a:xfrm>
          <a:prstGeom prst="rect">
            <a:avLst/>
          </a:prstGeom>
          <a:ln w="0">
            <a:noFill/>
          </a:ln>
        </p:spPr>
      </p:pic>
      <p:sp>
        <p:nvSpPr>
          <p:cNvPr id="348" name="Segnaposto contenuto 2"/>
          <p:cNvSpPr/>
          <p:nvPr/>
        </p:nvSpPr>
        <p:spPr>
          <a:xfrm>
            <a:off x="4143240" y="2428920"/>
            <a:ext cx="3857760" cy="300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DATI AGGIUN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ata di limite utiliz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antità allest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repara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teni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rezzo pratic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uliz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ccettazione prepa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108000" y="1778040"/>
            <a:ext cx="3841560" cy="4705200"/>
          </a:xfrm>
          <a:prstGeom prst="rect">
            <a:avLst/>
          </a:prstGeom>
          <a:ln w="0">
            <a:noFill/>
          </a:ln>
        </p:spPr>
      </p:pic>
      <p:pic>
        <p:nvPicPr>
          <p:cNvPr id="350" name="Immagine 11" descr="newspaper_clipart.gif"/>
          <p:cNvPicPr/>
          <p:nvPr/>
        </p:nvPicPr>
        <p:blipFill>
          <a:blip r:embed="rId4"/>
          <a:stretch/>
        </p:blipFill>
        <p:spPr>
          <a:xfrm>
            <a:off x="6429240" y="142920"/>
            <a:ext cx="154008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ttangolo 8"/>
          <p:cNvSpPr/>
          <p:nvPr/>
        </p:nvSpPr>
        <p:spPr>
          <a:xfrm>
            <a:off x="3780000" y="4581360"/>
            <a:ext cx="2000160" cy="14288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Offici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Magistr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Farm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asellaDiTesto 10"/>
          <p:cNvSpPr/>
          <p:nvPr/>
        </p:nvSpPr>
        <p:spPr>
          <a:xfrm>
            <a:off x="142920" y="1878120"/>
            <a:ext cx="450036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egistro compilato automatic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emorizza tutte le preparazioni effettuate con numero e data, componenti e lotti utilizz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atori separ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Titolo 1" descr=""/>
          <p:cNvPicPr/>
          <p:nvPr/>
        </p:nvPicPr>
        <p:blipFill>
          <a:blip r:embed="rId1"/>
          <a:stretch/>
        </p:blipFill>
        <p:spPr>
          <a:xfrm>
            <a:off x="19080" y="865080"/>
            <a:ext cx="7442280" cy="603360"/>
          </a:xfrm>
          <a:prstGeom prst="rect">
            <a:avLst/>
          </a:prstGeom>
          <a:ln w="0">
            <a:noFill/>
          </a:ln>
        </p:spPr>
      </p:pic>
      <p:pic>
        <p:nvPicPr>
          <p:cNvPr id="354" name="Titolo 1" descr=""/>
          <p:cNvPicPr/>
          <p:nvPr/>
        </p:nvPicPr>
        <p:blipFill>
          <a:blip r:embed="rId2"/>
          <a:stretch/>
        </p:blipFill>
        <p:spPr>
          <a:xfrm>
            <a:off x="-103320" y="60480"/>
            <a:ext cx="8253720" cy="731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C:\Programmi\Microsoft Office\MEDIA\CAGCAT10\j0285750.wmf"/>
          <p:cNvPicPr/>
          <p:nvPr/>
        </p:nvPicPr>
        <p:blipFill>
          <a:blip r:embed="rId3"/>
          <a:stretch/>
        </p:blipFill>
        <p:spPr>
          <a:xfrm>
            <a:off x="4857840" y="1428840"/>
            <a:ext cx="3022560" cy="1857240"/>
          </a:xfrm>
          <a:prstGeom prst="rect">
            <a:avLst/>
          </a:prstGeom>
          <a:ln w="0">
            <a:noFill/>
          </a:ln>
        </p:spPr>
      </p:pic>
      <p:sp>
        <p:nvSpPr>
          <p:cNvPr id="356" name="Freccia circolare in su 20"/>
          <p:cNvSpPr/>
          <p:nvPr/>
        </p:nvSpPr>
        <p:spPr>
          <a:xfrm rot="2530200">
            <a:off x="2553840" y="5545080"/>
            <a:ext cx="1071720" cy="785880"/>
          </a:xfrm>
          <a:custGeom>
            <a:avLst/>
            <a:gdLst>
              <a:gd name="textAreaLeft" fmla="*/ 194040 w 1071720"/>
              <a:gd name="textAreaRight" fmla="*/ 779400 w 107172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30" hR="21600" stAng="10800000" swAng="-5400000"/>
                <a:lnTo>
                  <a:pt x="11790" y="21600"/>
                </a:lnTo>
                <a:arcTo wR="7830" hR="21600" stAng="5400000" swAng="-3272326"/>
                <a:lnTo>
                  <a:pt x="21351" y="5400"/>
                </a:lnTo>
                <a:lnTo>
                  <a:pt x="17640" y="0"/>
                </a:lnTo>
                <a:lnTo>
                  <a:pt x="13431" y="5400"/>
                </a:lnTo>
                <a:lnTo>
                  <a:pt x="15411" y="5400"/>
                </a:lnTo>
                <a:arcTo wR="7830" hR="21600" stAng="2127674" swAng="2947583"/>
                <a:lnTo>
                  <a:pt x="9810" y="20898"/>
                </a:lnTo>
                <a:arcTo wR="7830" hR="21600" stAng="5724743" swAng="5075257"/>
                <a:close/>
              </a:path>
              <a:path fill="darkenLess" w="21600" h="21600">
                <a:moveTo>
                  <a:pt x="0" y="0"/>
                </a:moveTo>
                <a:arcTo wR="7830" hR="21600" stAng="10800000" swAng="-5400000"/>
                <a:lnTo>
                  <a:pt x="11790" y="21600"/>
                </a:lnTo>
                <a:arcTo wR="7830" hR="21600" stAng="5400000" swAng="324743"/>
                <a:lnTo>
                  <a:pt x="9810" y="20898"/>
                </a:lnTo>
                <a:arcTo wR="7830" hR="21600" stAng="5724743" swAng="5075257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ttangolo 10"/>
          <p:cNvSpPr/>
          <p:nvPr/>
        </p:nvSpPr>
        <p:spPr>
          <a:xfrm>
            <a:off x="142920" y="1000080"/>
            <a:ext cx="3643200" cy="1785960"/>
          </a:xfrm>
          <a:prstGeom prst="rect">
            <a:avLst/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Strumento a tutela e garanzia della salute del cittad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ttangolo 13"/>
          <p:cNvSpPr/>
          <p:nvPr/>
        </p:nvSpPr>
        <p:spPr>
          <a:xfrm>
            <a:off x="4357800" y="1000080"/>
            <a:ext cx="3643200" cy="1784520"/>
          </a:xfrm>
          <a:prstGeom prst="rect">
            <a:avLst/>
          </a:prstGeom>
          <a:solidFill>
            <a:srgbClr val="c00000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Duplicazione prodotto industr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egnaposto contenuto 2"/>
          <p:cNvSpPr/>
          <p:nvPr/>
        </p:nvSpPr>
        <p:spPr>
          <a:xfrm>
            <a:off x="0" y="3786120"/>
            <a:ext cx="585792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I: velocizza continuo aggiornamento tecnico e legisl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I: contribuisce allo snellimento burocra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I: lascia il tempo all’allestimento vero e prop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I: maggiore struttura, efficienza, pratic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Titolo 1" descr=""/>
          <p:cNvPicPr/>
          <p:nvPr/>
        </p:nvPicPr>
        <p:blipFill>
          <a:blip r:embed="rId1"/>
          <a:stretch/>
        </p:blipFill>
        <p:spPr>
          <a:xfrm>
            <a:off x="-79200" y="60480"/>
            <a:ext cx="8315280" cy="731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" descr="7977075"/>
          <p:cNvPicPr/>
          <p:nvPr/>
        </p:nvPicPr>
        <p:blipFill>
          <a:blip r:embed="rId2"/>
          <a:srcRect l="0" t="6247" r="5418" b="7431"/>
          <a:stretch/>
        </p:blipFill>
        <p:spPr>
          <a:xfrm>
            <a:off x="5786280" y="3857760"/>
            <a:ext cx="2286000" cy="2571480"/>
          </a:xfrm>
          <a:prstGeom prst="rect">
            <a:avLst/>
          </a:prstGeom>
          <a:ln w="0">
            <a:noFill/>
          </a:ln>
        </p:spPr>
      </p:pic>
      <p:pic>
        <p:nvPicPr>
          <p:cNvPr id="362" name="Titolo 1" descr=""/>
          <p:cNvPicPr/>
          <p:nvPr/>
        </p:nvPicPr>
        <p:blipFill>
          <a:blip r:embed="rId3"/>
          <a:stretch/>
        </p:blipFill>
        <p:spPr>
          <a:xfrm>
            <a:off x="-6480" y="2779560"/>
            <a:ext cx="8156880" cy="93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1000" autoRev="1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" dur="1000" autoRev="1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" dur="1000" autoRev="1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1000" autoRev="1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0" dur="1000" autoRev="1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" dur="1000" autoRev="1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CasellaDiTesto 5"/>
          <p:cNvSpPr/>
          <p:nvPr/>
        </p:nvSpPr>
        <p:spPr>
          <a:xfrm>
            <a:off x="144360" y="1571760"/>
            <a:ext cx="485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ventario a fine a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coscienza della reale situazione di magazz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istema di comuni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Immagine 6" descr="Vecchio laboratorio.bmp"/>
          <p:cNvPicPr/>
          <p:nvPr/>
        </p:nvPicPr>
        <p:blipFill>
          <a:blip r:embed="rId1"/>
          <a:stretch/>
        </p:blipFill>
        <p:spPr>
          <a:xfrm>
            <a:off x="4950000" y="1357200"/>
            <a:ext cx="3122280" cy="2071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40" name="Titolo 1" descr=""/>
          <p:cNvPicPr/>
          <p:nvPr/>
        </p:nvPicPr>
        <p:blipFill>
          <a:blip r:embed="rId2"/>
          <a:stretch/>
        </p:blipFill>
        <p:spPr>
          <a:xfrm>
            <a:off x="-103320" y="60480"/>
            <a:ext cx="9253800" cy="731520"/>
          </a:xfrm>
          <a:prstGeom prst="rect">
            <a:avLst/>
          </a:prstGeom>
          <a:ln w="0">
            <a:noFill/>
          </a:ln>
        </p:spPr>
      </p:pic>
      <p:pic>
        <p:nvPicPr>
          <p:cNvPr id="241" name="Titolo 1" descr=""/>
          <p:cNvPicPr/>
          <p:nvPr/>
        </p:nvPicPr>
        <p:blipFill>
          <a:blip r:embed="rId3"/>
          <a:stretch/>
        </p:blipFill>
        <p:spPr>
          <a:xfrm>
            <a:off x="19080" y="865080"/>
            <a:ext cx="7442280" cy="603360"/>
          </a:xfrm>
          <a:prstGeom prst="rect">
            <a:avLst/>
          </a:prstGeom>
          <a:ln w="0">
            <a:noFill/>
          </a:ln>
        </p:spPr>
      </p:pic>
      <p:sp>
        <p:nvSpPr>
          <p:cNvPr id="242" name="CasellaDiTesto 14"/>
          <p:cNvSpPr/>
          <p:nvPr/>
        </p:nvSpPr>
        <p:spPr>
          <a:xfrm>
            <a:off x="142920" y="3970440"/>
            <a:ext cx="721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rdini in base al venduto via m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286 e 386 con 20 – 40 Mbyte 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486 e sistema multiut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entium e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Titolo 1" descr=""/>
          <p:cNvPicPr/>
          <p:nvPr/>
        </p:nvPicPr>
        <p:blipFill>
          <a:blip r:embed="rId4"/>
          <a:stretch/>
        </p:blipFill>
        <p:spPr>
          <a:xfrm>
            <a:off x="12600" y="3292560"/>
            <a:ext cx="744228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4"/>
          <p:cNvGraphicFramePr/>
          <p:nvPr/>
        </p:nvGraphicFramePr>
        <p:xfrm>
          <a:off x="2195640" y="5894280"/>
          <a:ext cx="1233360" cy="80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5894280"/>
                    <a:ext cx="12333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6" name="Picture 9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285840" y="58230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" descr=""/>
          <p:cNvPicPr/>
          <p:nvPr/>
        </p:nvPicPr>
        <p:blipFill>
          <a:blip r:embed="rId8"/>
          <a:stretch/>
        </p:blipFill>
        <p:spPr>
          <a:xfrm>
            <a:off x="4697280" y="5680080"/>
            <a:ext cx="1231920" cy="1106640"/>
          </a:xfrm>
          <a:prstGeom prst="rect">
            <a:avLst/>
          </a:prstGeom>
          <a:ln w="0">
            <a:noFill/>
          </a:ln>
        </p:spPr>
      </p:pic>
      <p:pic>
        <p:nvPicPr>
          <p:cNvPr id="248" name="Immagine 22" descr="linux-penguin-big_origpreview.jpg"/>
          <p:cNvPicPr/>
          <p:nvPr/>
        </p:nvPicPr>
        <p:blipFill>
          <a:blip r:embed="rId9"/>
          <a:stretch/>
        </p:blipFill>
        <p:spPr>
          <a:xfrm>
            <a:off x="7000920" y="5751360"/>
            <a:ext cx="857160" cy="101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CasellaDiTesto 6"/>
          <p:cNvSpPr/>
          <p:nvPr/>
        </p:nvSpPr>
        <p:spPr>
          <a:xfrm>
            <a:off x="0" y="1928880"/>
            <a:ext cx="2786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B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renotazioni di vi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special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ont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asellaDiTesto 10"/>
          <p:cNvSpPr/>
          <p:nvPr/>
        </p:nvSpPr>
        <p:spPr>
          <a:xfrm>
            <a:off x="0" y="550080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LABORATORIO GALE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asellaDiTesto 11"/>
          <p:cNvSpPr/>
          <p:nvPr/>
        </p:nvSpPr>
        <p:spPr>
          <a:xfrm>
            <a:off x="5214960" y="2035080"/>
            <a:ext cx="2928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Magazz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Laboratorio di autoanal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omuni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3067200" y="3786120"/>
            <a:ext cx="20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"/>
          <p:cNvPicPr/>
          <p:nvPr/>
        </p:nvPicPr>
        <p:blipFill>
          <a:blip r:embed="rId2"/>
          <a:stretch/>
        </p:blipFill>
        <p:spPr>
          <a:xfrm>
            <a:off x="2714760" y="1428840"/>
            <a:ext cx="2571480" cy="2307960"/>
          </a:xfrm>
          <a:prstGeom prst="rect">
            <a:avLst/>
          </a:prstGeom>
          <a:ln w="0">
            <a:noFill/>
          </a:ln>
        </p:spPr>
      </p:pic>
      <p:pic>
        <p:nvPicPr>
          <p:cNvPr id="254" name="Titolo 1" descr=""/>
          <p:cNvPicPr/>
          <p:nvPr/>
        </p:nvPicPr>
        <p:blipFill>
          <a:blip r:embed="rId3"/>
          <a:stretch/>
        </p:blipFill>
        <p:spPr>
          <a:xfrm>
            <a:off x="-6480" y="60480"/>
            <a:ext cx="8156880" cy="73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2286000" y="2356920"/>
            <a:ext cx="58579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ersonalizzazione del dosagg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reparazioni di medicinali instabi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ossibilità di associazi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ossibilità di variare la forma farmaceutica rispetto a quella del prodotto industri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ossibilità di variare gli eccipienti presenti nel medicinale industri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erapia del dol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Immagine 4" descr="Galeno.jpg"/>
          <p:cNvPicPr/>
          <p:nvPr/>
        </p:nvPicPr>
        <p:blipFill>
          <a:blip r:embed="rId1"/>
          <a:stretch/>
        </p:blipFill>
        <p:spPr>
          <a:xfrm>
            <a:off x="214200" y="2928960"/>
            <a:ext cx="1947960" cy="2614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57" name="CasellaDiTesto 13"/>
          <p:cNvSpPr/>
          <p:nvPr/>
        </p:nvSpPr>
        <p:spPr>
          <a:xfrm>
            <a:off x="144360" y="1143000"/>
            <a:ext cx="764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simplicium medicamentorum temperamentis et facultatibu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- II sec d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Titolo 1" descr=""/>
          <p:cNvPicPr/>
          <p:nvPr/>
        </p:nvPicPr>
        <p:blipFill>
          <a:blip r:embed="rId2"/>
          <a:stretch/>
        </p:blipFill>
        <p:spPr>
          <a:xfrm>
            <a:off x="-103320" y="60480"/>
            <a:ext cx="8253720" cy="731520"/>
          </a:xfrm>
          <a:prstGeom prst="rect">
            <a:avLst/>
          </a:prstGeom>
          <a:ln w="0">
            <a:noFill/>
          </a:ln>
        </p:spPr>
      </p:pic>
      <p:sp>
        <p:nvSpPr>
          <p:cNvPr id="259" name="CasellaDiTesto 9"/>
          <p:cNvSpPr/>
          <p:nvPr/>
        </p:nvSpPr>
        <p:spPr>
          <a:xfrm>
            <a:off x="142920" y="3429000"/>
            <a:ext cx="7929360" cy="1191240"/>
          </a:xfrm>
          <a:prstGeom prst="rect">
            <a:avLst/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RATICA PECULIARE, PROFESSIONALIZZANTE, ESCLU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ELLA PROFESSIONE DEL FARMAC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ART. 7.1 CODICE DEONT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CasellaDiTesto 17"/>
          <p:cNvSpPr/>
          <p:nvPr/>
        </p:nvSpPr>
        <p:spPr>
          <a:xfrm>
            <a:off x="3125880" y="1643040"/>
            <a:ext cx="5375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upporto del </a:t>
            </a: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modus opera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ggiornamento tecnico e legisl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nellimento ope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ostituzione della gestione cartac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asellaDiTesto 76"/>
          <p:cNvSpPr/>
          <p:nvPr/>
        </p:nvSpPr>
        <p:spPr>
          <a:xfrm>
            <a:off x="0" y="450072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Rispetto al prodotto industriale livelli analoghi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nda 1 15"/>
          <p:cNvSpPr/>
          <p:nvPr/>
        </p:nvSpPr>
        <p:spPr>
          <a:xfrm>
            <a:off x="214200" y="5643720"/>
            <a:ext cx="2571840" cy="1000080"/>
          </a:xfrm>
          <a:custGeom>
            <a:avLst/>
            <a:gdLst>
              <a:gd name="textAreaLeft" fmla="*/ 0 w 2571840"/>
              <a:gd name="textAreaRight" fmla="*/ 2572200 w 257184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17375e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alibri"/>
              </a:rPr>
              <a:t>QUA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nda 1 16"/>
          <p:cNvSpPr/>
          <p:nvPr/>
        </p:nvSpPr>
        <p:spPr>
          <a:xfrm>
            <a:off x="2786040" y="5643720"/>
            <a:ext cx="2571840" cy="1000080"/>
          </a:xfrm>
          <a:custGeom>
            <a:avLst/>
            <a:gdLst>
              <a:gd name="textAreaLeft" fmla="*/ 0 w 2571840"/>
              <a:gd name="textAreaRight" fmla="*/ 2572200 w 257184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17375e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alibri"/>
              </a:rPr>
              <a:t>SICUR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nda 1 17"/>
          <p:cNvSpPr/>
          <p:nvPr/>
        </p:nvSpPr>
        <p:spPr>
          <a:xfrm>
            <a:off x="5357880" y="5643720"/>
            <a:ext cx="2571840" cy="1000080"/>
          </a:xfrm>
          <a:custGeom>
            <a:avLst/>
            <a:gdLst>
              <a:gd name="textAreaLeft" fmla="*/ 0 w 2571840"/>
              <a:gd name="textAreaRight" fmla="*/ 2572200 w 257184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17375e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alibri"/>
              </a:rPr>
              <a:t>EFFIC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ccia in giù 18"/>
          <p:cNvSpPr/>
          <p:nvPr/>
        </p:nvSpPr>
        <p:spPr>
          <a:xfrm>
            <a:off x="3929040" y="514368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Titolo 1" descr=""/>
          <p:cNvPicPr/>
          <p:nvPr/>
        </p:nvPicPr>
        <p:blipFill>
          <a:blip r:embed="rId1"/>
          <a:stretch/>
        </p:blipFill>
        <p:spPr>
          <a:xfrm>
            <a:off x="-103320" y="60480"/>
            <a:ext cx="8253720" cy="731520"/>
          </a:xfrm>
          <a:prstGeom prst="rect">
            <a:avLst/>
          </a:prstGeom>
          <a:ln w="0">
            <a:noFill/>
          </a:ln>
        </p:spPr>
      </p:pic>
      <p:pic>
        <p:nvPicPr>
          <p:cNvPr id="267" name="Titolo 1" descr=""/>
          <p:cNvPicPr/>
          <p:nvPr/>
        </p:nvPicPr>
        <p:blipFill>
          <a:blip r:embed="rId2"/>
          <a:stretch/>
        </p:blipFill>
        <p:spPr>
          <a:xfrm>
            <a:off x="19080" y="865080"/>
            <a:ext cx="7442280" cy="603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"/>
          <p:cNvPicPr/>
          <p:nvPr/>
        </p:nvPicPr>
        <p:blipFill>
          <a:blip r:embed="rId3"/>
          <a:stretch/>
        </p:blipFill>
        <p:spPr>
          <a:xfrm>
            <a:off x="500040" y="1500120"/>
            <a:ext cx="2293920" cy="29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CasellaDiTesto 4"/>
          <p:cNvSpPr/>
          <p:nvPr/>
        </p:nvSpPr>
        <p:spPr>
          <a:xfrm>
            <a:off x="144360" y="1641600"/>
            <a:ext cx="7785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rocedure operative propo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tuitività dei coma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formità delle normative vig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viluppato da farmaci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M 18/11/2003 vs N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dattabilità a diversi standard lavor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5786280" y="4429080"/>
            <a:ext cx="2286000" cy="2316240"/>
          </a:xfrm>
          <a:prstGeom prst="rect">
            <a:avLst/>
          </a:prstGeom>
          <a:ln w="0">
            <a:noFill/>
          </a:ln>
        </p:spPr>
      </p:pic>
      <p:pic>
        <p:nvPicPr>
          <p:cNvPr id="271" name="Titolo 1" descr=""/>
          <p:cNvPicPr/>
          <p:nvPr/>
        </p:nvPicPr>
        <p:blipFill>
          <a:blip r:embed="rId2"/>
          <a:stretch/>
        </p:blipFill>
        <p:spPr>
          <a:xfrm>
            <a:off x="-103320" y="60480"/>
            <a:ext cx="8253720" cy="731520"/>
          </a:xfrm>
          <a:prstGeom prst="rect">
            <a:avLst/>
          </a:prstGeom>
          <a:ln w="0">
            <a:noFill/>
          </a:ln>
        </p:spPr>
      </p:pic>
      <p:pic>
        <p:nvPicPr>
          <p:cNvPr id="272" name="Titolo 1" descr=""/>
          <p:cNvPicPr/>
          <p:nvPr/>
        </p:nvPicPr>
        <p:blipFill>
          <a:blip r:embed="rId3"/>
          <a:stretch/>
        </p:blipFill>
        <p:spPr>
          <a:xfrm>
            <a:off x="19080" y="865080"/>
            <a:ext cx="7442280" cy="60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olo 1" descr=""/>
          <p:cNvPicPr/>
          <p:nvPr/>
        </p:nvPicPr>
        <p:blipFill>
          <a:blip r:embed="rId1"/>
          <a:stretch/>
        </p:blipFill>
        <p:spPr>
          <a:xfrm>
            <a:off x="-103320" y="60480"/>
            <a:ext cx="8253720" cy="731520"/>
          </a:xfrm>
          <a:prstGeom prst="rect">
            <a:avLst/>
          </a:prstGeom>
          <a:ln w="0">
            <a:noFill/>
          </a:ln>
        </p:spPr>
      </p:pic>
      <p:sp>
        <p:nvSpPr>
          <p:cNvPr id="274" name="CasellaDiTesto 11"/>
          <p:cNvSpPr/>
          <p:nvPr/>
        </p:nvSpPr>
        <p:spPr>
          <a:xfrm>
            <a:off x="144360" y="1641600"/>
            <a:ext cx="7927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Giacenza magazzino, gestione lotti aperti e chiusi, valore magazz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rchivi paziente e medici, forn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rchivio recipi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rchivio formulazio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roduzione di fogli di allestimento e produzione di etich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alcolo della data di limite utiliz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Titolo 1" descr=""/>
          <p:cNvPicPr/>
          <p:nvPr/>
        </p:nvPicPr>
        <p:blipFill>
          <a:blip r:embed="rId2"/>
          <a:stretch/>
        </p:blipFill>
        <p:spPr>
          <a:xfrm>
            <a:off x="19080" y="865080"/>
            <a:ext cx="7442280" cy="609840"/>
          </a:xfrm>
          <a:prstGeom prst="rect">
            <a:avLst/>
          </a:prstGeom>
          <a:ln w="0">
            <a:noFill/>
          </a:ln>
        </p:spPr>
      </p:pic>
      <p:pic>
        <p:nvPicPr>
          <p:cNvPr id="276" name="Immagine 9" descr="product5.jpg"/>
          <p:cNvPicPr/>
          <p:nvPr/>
        </p:nvPicPr>
        <p:blipFill>
          <a:blip r:embed="rId3"/>
          <a:stretch/>
        </p:blipFill>
        <p:spPr>
          <a:xfrm>
            <a:off x="5713560" y="4786200"/>
            <a:ext cx="2358720" cy="192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CasellaDiTesto 3"/>
          <p:cNvSpPr/>
          <p:nvPr/>
        </p:nvSpPr>
        <p:spPr>
          <a:xfrm>
            <a:off x="144360" y="1641600"/>
            <a:ext cx="899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pprovata con DM 18 agosto 19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nversione in € - 1 gennaio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asellaDiTesto 5"/>
          <p:cNvSpPr/>
          <p:nvPr/>
        </p:nvSpPr>
        <p:spPr>
          <a:xfrm>
            <a:off x="285840" y="3214800"/>
            <a:ext cx="7500960" cy="308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alibri"/>
              </a:rPr>
              <a:t>Art. 13.</a:t>
            </a:r>
            <a:br>
              <a:rPr sz="2800"/>
            </a:b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presente tariffa è applicabile unicamente alle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reparazioni estemporane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eseguite integralmente in farma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alibri"/>
              </a:rPr>
              <a:t>Art. 11.</a:t>
            </a:r>
            <a:br>
              <a:rPr sz="2800"/>
            </a:b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tariffa nazionale non deve essere applicata quando la vendita al pubblico concerne sostanze non aventi forma e dose di medic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Immagine 6" descr="polichimica-storia-01.jpg"/>
          <p:cNvPicPr/>
          <p:nvPr/>
        </p:nvPicPr>
        <p:blipFill>
          <a:blip r:embed="rId2"/>
          <a:stretch/>
        </p:blipFill>
        <p:spPr>
          <a:xfrm>
            <a:off x="5857920" y="214200"/>
            <a:ext cx="219060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80" name="Titolo 1" descr=""/>
          <p:cNvPicPr/>
          <p:nvPr/>
        </p:nvPicPr>
        <p:blipFill>
          <a:blip r:embed="rId3"/>
          <a:stretch/>
        </p:blipFill>
        <p:spPr>
          <a:xfrm>
            <a:off x="-103320" y="60480"/>
            <a:ext cx="8253720" cy="731520"/>
          </a:xfrm>
          <a:prstGeom prst="rect">
            <a:avLst/>
          </a:prstGeom>
          <a:ln w="0">
            <a:noFill/>
          </a:ln>
        </p:spPr>
      </p:pic>
      <p:pic>
        <p:nvPicPr>
          <p:cNvPr id="281" name="Titolo 1" descr=""/>
          <p:cNvPicPr/>
          <p:nvPr/>
        </p:nvPicPr>
        <p:blipFill>
          <a:blip r:embed="rId4"/>
          <a:stretch/>
        </p:blipFill>
        <p:spPr>
          <a:xfrm>
            <a:off x="19080" y="865080"/>
            <a:ext cx="7442280" cy="60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2:54:01Z</dcterms:created>
  <dc:creator>Matteo Cavallero</dc:creator>
  <dc:description/>
  <dc:language>en-US</dc:language>
  <cp:lastModifiedBy>Francesca</cp:lastModifiedBy>
  <dcterms:modified xsi:type="dcterms:W3CDTF">2013-04-05T15:32:04Z</dcterms:modified>
  <cp:revision>283</cp:revision>
  <dc:subject/>
  <dc:title>GALENICA ED INFORMATICA: UN BINOMIO CHE INNALZA IL LIVELLO DI QUALITÀ</dc:title>
</cp:coreProperties>
</file>